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992-BF0C-4EE0-A7A0-690666EE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7F0-6FA1-4DCC-96A7-7D69724C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027-3494-4641-B192-695A43A8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D3E-AC5B-4CB7-B97B-EC72B5D5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813-6A77-4C41-B855-191FBC31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040-5445-43CB-836F-9A5EF5D4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5D8-96A3-4590-9B35-C573E7D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32D-5A04-4937-A481-7A41B737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A57-3E44-4843-BA45-F36FF017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2AB-8C20-4193-B188-5426B622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08B-B1A6-4A6C-88AA-2BB77FF4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138-8E59-4A30-A191-C205B64D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3475-7961-475E-A634-BB5F540FB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was a great president! He helped people get away from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4038840" cy="306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71800" y="4038480"/>
            <a:ext cx="301320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 He was in the war. He lived in the Whit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732, died in 1799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51:36Z</dcterms:created>
  <dc:creator>smuser</dc:creator>
  <dc:description/>
  <dc:language>en-US</dc:language>
  <cp:lastModifiedBy>smuser</cp:lastModifiedBy>
  <dcterms:modified xsi:type="dcterms:W3CDTF">2010-02-01T18:51:28Z</dcterms:modified>
  <cp:revision>2</cp:revision>
  <dc:subject/>
  <dc:title>Comparing Presidents</dc:title>
</cp:coreProperties>
</file>